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33F-FE20-46E9-B214-E5EEC6FE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247-AB1D-4EB7-880E-466EA686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B08-D066-40B4-9A3B-B27613DA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440-BCD9-4E6D-9BB3-1DFB3154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3B9-6C6E-45CC-91FD-51F2DEB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7C0-96CE-48A4-A447-AE65D4E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815-586C-4EED-BAD5-B50812C7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98E-7F1D-4616-BE66-72B7087C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E90-C5E4-4FF6-971B-169A42DB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1B4-39E8-4D8A-9F07-C9AD891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2C3-21CB-4BA0-88A3-2D5B2BD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F8B-C7CF-41A5-9EE2-6103C40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E7E6-6DD2-4E33-A96A-1DC9F69EDC3D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16:25Z</dcterms:modified>
  <cp:revision>169</cp:revision>
  <dc:subject/>
  <dc:title>PowerPoint</dc:title>
</cp:coreProperties>
</file>